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665-BF03-4CAF-89DB-7D3C29D8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28B-9F4C-468A-A0E8-8262040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290-8F53-4B65-8377-169B3C8D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29A-03DA-40C8-8CA0-FF9A3DDF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5FF-A2EA-4740-9AF5-1189B8D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D25-0E95-4C87-B12B-6127CF8D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DA6-F635-4B7B-88D8-A661B92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4D-3178-4E97-BADD-DFB72B1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539-ED50-4C12-B8FB-98DFA4D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EEF-043C-4798-9E0D-88958B5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167-0839-47C9-8AAD-4EF18D2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5DD-6316-402A-8F3D-31CFBD2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4FD0-B7FD-4630-A53C-E20A4DAA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Blackadder ITC"/>
              </a:rPr>
              <a:t>Used 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76560"/>
            <a:ext cx="266688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aCosta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V"/>
          <p:cNvPicPr/>
          <p:nvPr/>
        </p:nvPicPr>
        <p:blipFill>
          <a:blip r:embed="rId2"/>
          <a:stretch/>
        </p:blipFill>
        <p:spPr>
          <a:xfrm>
            <a:off x="4572000" y="685800"/>
            <a:ext cx="421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say about these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E_MichaelJackson.jpg"/>
          <p:cNvPicPr/>
          <p:nvPr/>
        </p:nvPicPr>
        <p:blipFill>
          <a:blip r:embed="rId1"/>
          <a:stretch/>
        </p:blipFill>
        <p:spPr>
          <a:xfrm>
            <a:off x="2971800" y="213372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3" descr="2532_full.jpg"/>
          <p:cNvPicPr/>
          <p:nvPr/>
        </p:nvPicPr>
        <p:blipFill>
          <a:blip r:embed="rId1"/>
          <a:srcRect l="50002" t="0" r="0" b="69697"/>
          <a:stretch/>
        </p:blipFill>
        <p:spPr>
          <a:xfrm>
            <a:off x="2362320" y="2209680"/>
            <a:ext cx="392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2532_full.jpg"/>
          <p:cNvPicPr/>
          <p:nvPr/>
        </p:nvPicPr>
        <p:blipFill>
          <a:blip r:embed="rId1"/>
          <a:srcRect l="50002" t="31989" r="0" b="34339"/>
          <a:stretch/>
        </p:blipFill>
        <p:spPr>
          <a:xfrm>
            <a:off x="2438280" y="1828800"/>
            <a:ext cx="40197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abc_vanhalen_070424_ssh.jpg"/>
          <p:cNvPicPr/>
          <p:nvPr/>
        </p:nvPicPr>
        <p:blipFill>
          <a:blip r:embed="rId1"/>
          <a:stretch/>
        </p:blipFill>
        <p:spPr>
          <a:xfrm>
            <a:off x="1676520" y="2057400"/>
            <a:ext cx="5511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amywinehouseuf5.jpg"/>
          <p:cNvPicPr/>
          <p:nvPr/>
        </p:nvPicPr>
        <p:blipFill>
          <a:blip r:embed="rId1"/>
          <a:stretch/>
        </p:blipFill>
        <p:spPr>
          <a:xfrm>
            <a:off x="2819520" y="2133720"/>
            <a:ext cx="347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arnold-before-and-after-cefjfhimcefjeghl.jpg"/>
          <p:cNvPicPr/>
          <p:nvPr/>
        </p:nvPicPr>
        <p:blipFill>
          <a:blip r:embed="rId1"/>
          <a:stretch/>
        </p:blipFill>
        <p:spPr>
          <a:xfrm>
            <a:off x="2719440" y="1600200"/>
            <a:ext cx="370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brad_pitt.jpg"/>
          <p:cNvPicPr/>
          <p:nvPr/>
        </p:nvPicPr>
        <p:blipFill>
          <a:blip r:embed="rId1"/>
          <a:stretch/>
        </p:blipFill>
        <p:spPr>
          <a:xfrm>
            <a:off x="1676520" y="2133720"/>
            <a:ext cx="5581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alking about past habits, routines, states, and situations, especially when they are no longer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habi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e used to smoke cigaret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rout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e used to exercise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y used to be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situ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e used to live in Carls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in sentences that contrast the past with th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pressio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w, no longer, not any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presen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e used to work at two jobs, but she no longer works.  She is retired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+ used to +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e used to work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+ didn’t use to +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y didn’t use 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+ subject + use to + verb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id you use to drive a red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brities and 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per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beauti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wonder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have secrets?  Things they don’t want us to know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343400" y="4267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9480" y="4267080"/>
            <a:ext cx="762012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ch as, that they are only human? Like we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 they have faults and weaknesses,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keletons in the clo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 v. simpl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an be used in many cases when you used simple past with equal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quently 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 to 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te fo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Sj03884070000[1].wav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Mj02866680000[1]"/>
          <p:cNvPicPr/>
          <p:nvPr/>
        </p:nvPicPr>
        <p:blipFill>
          <a:blip r:embed="rId2"/>
          <a:stretch/>
        </p:blipFill>
        <p:spPr>
          <a:xfrm>
            <a:off x="6629400" y="4419720"/>
            <a:ext cx="22478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33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 v. simpl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differenc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t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ast actions that happened 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, definite time in the p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ked yester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 She used to wo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2932220000[1]"/>
          <p:cNvPicPr/>
          <p:nvPr/>
        </p:nvPicPr>
        <p:blipFill>
          <a:blip r:embed="rId1"/>
          <a:stretch/>
        </p:blipFill>
        <p:spPr>
          <a:xfrm>
            <a:off x="1905120" y="4430880"/>
            <a:ext cx="457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=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/ get used to = be accustomed / get accustom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dn’t use to 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rican food, but now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 used to 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accustom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 How do like driving in Califor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 Well, at first the traffic annoyed me, but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 getting used to it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coming accustom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Mj02545000000[1]"/>
          <p:cNvPicPr/>
          <p:nvPr/>
        </p:nvPicPr>
        <p:blipFill>
          <a:blip r:embed="rId1"/>
          <a:stretch/>
        </p:blipFill>
        <p:spPr>
          <a:xfrm>
            <a:off x="2514600" y="1752480"/>
            <a:ext cx="40575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(Unit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ase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rnold Schwarzenegger.  He used to be an action movie hero and body builder, but now he is a politician and the governor of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(SC)Arnold_Schwarzenegger_Photo"/>
          <p:cNvPicPr/>
          <p:nvPr/>
        </p:nvPicPr>
        <p:blipFill>
          <a:blip r:embed="rId1"/>
          <a:stretch/>
        </p:blipFill>
        <p:spPr>
          <a:xfrm>
            <a:off x="3890880" y="1600200"/>
            <a:ext cx="4184640" cy="525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Arnold_Schwarzenegger"/>
          <p:cNvPicPr/>
          <p:nvPr/>
        </p:nvPicPr>
        <p:blipFill>
          <a:blip r:embed="rId2"/>
          <a:stretch/>
        </p:blipFill>
        <p:spPr>
          <a:xfrm>
            <a:off x="800280" y="1600200"/>
            <a:ext cx="309528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NG%20LNG%20LNG%20&amp;%20Arnold%20Schwarzenegger%20LNG"/>
          <p:cNvPicPr/>
          <p:nvPr/>
        </p:nvPicPr>
        <p:blipFill>
          <a:blip r:embed="rId3"/>
          <a:stretch/>
        </p:blipFill>
        <p:spPr>
          <a:xfrm>
            <a:off x="533520" y="1611360"/>
            <a:ext cx="8001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lmo.  He used to be an innocent puppet, but now he has a police record and ties to the maf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elmo"/>
          <p:cNvPicPr/>
          <p:nvPr/>
        </p:nvPicPr>
        <p:blipFill>
          <a:blip r:embed="rId1"/>
          <a:stretch/>
        </p:blipFill>
        <p:spPr>
          <a:xfrm>
            <a:off x="990720" y="1657440"/>
            <a:ext cx="6933960" cy="520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274727INPm_w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ed D. Bear.  He used to be young and clean, but now is old and d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ed%20%20before%20&amp;%20after"/>
          <p:cNvPicPr/>
          <p:nvPr/>
        </p:nvPicPr>
        <p:blipFill>
          <a:blip r:embed="rId1"/>
          <a:stretch/>
        </p:blipFill>
        <p:spPr>
          <a:xfrm>
            <a:off x="380880" y="2103480"/>
            <a:ext cx="8382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Dawg.  She didn’t use to be famous, but now she is Ms. Dog Unive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lle%20Dressed%20Up%20Before%20and%20After"/>
          <p:cNvPicPr/>
          <p:nvPr/>
        </p:nvPicPr>
        <p:blipFill>
          <a:blip r:embed="rId1"/>
          <a:stretch/>
        </p:blipFill>
        <p:spPr>
          <a:xfrm>
            <a:off x="1143000" y="2143080"/>
            <a:ext cx="7058160" cy="471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13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Bill Clinton.  He used to like the ladies, and evidently he still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ust interested"/>
          <p:cNvPicPr/>
          <p:nvPr/>
        </p:nvPicPr>
        <p:blipFill>
          <a:blip r:embed="rId1"/>
          <a:stretch/>
        </p:blipFill>
        <p:spPr>
          <a:xfrm>
            <a:off x="457200" y="1600200"/>
            <a:ext cx="3373560" cy="487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the_Mask_Bill_Clinton_Monica_Lewinski"/>
          <p:cNvPicPr/>
          <p:nvPr/>
        </p:nvPicPr>
        <p:blipFill>
          <a:blip r:embed="rId2"/>
          <a:stretch/>
        </p:blipFill>
        <p:spPr>
          <a:xfrm>
            <a:off x="4038480" y="2286000"/>
            <a:ext cx="5105520" cy="34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5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ill Gates, the founder of Microsoft.  He used to be a college dropout, but now he is the richest man in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young20bill20gates2024wo"/>
          <p:cNvPicPr/>
          <p:nvPr/>
        </p:nvPicPr>
        <p:blipFill>
          <a:blip r:embed="rId1"/>
          <a:stretch/>
        </p:blipFill>
        <p:spPr>
          <a:xfrm>
            <a:off x="0" y="2286000"/>
            <a:ext cx="458136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dtv%20gates"/>
          <p:cNvPicPr/>
          <p:nvPr/>
        </p:nvPicPr>
        <p:blipFill>
          <a:blip r:embed="rId2"/>
          <a:stretch/>
        </p:blipFill>
        <p:spPr>
          <a:xfrm>
            <a:off x="4267080" y="4094280"/>
            <a:ext cx="4876920" cy="2763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0"/>
          <p:cNvSpPr/>
          <p:nvPr/>
        </p:nvSpPr>
        <p:spPr>
          <a:xfrm>
            <a:off x="5715000" y="1752480"/>
            <a:ext cx="3048120" cy="2286000"/>
          </a:xfrm>
          <a:prstGeom prst="cloudCallout">
            <a:avLst>
              <a:gd name="adj1" fmla="val -39324"/>
              <a:gd name="adj2" fmla="val 63402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MPj04008530000[1]"/>
          <p:cNvPicPr/>
          <p:nvPr/>
        </p:nvPicPr>
        <p:blipFill>
          <a:blip r:embed="rId3"/>
          <a:stretch/>
        </p:blipFill>
        <p:spPr>
          <a:xfrm>
            <a:off x="6781680" y="2057400"/>
            <a:ext cx="1067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e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, so I’m not famou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to have big hair and didn’t use to wear g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324320" cy="5819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838080" y="26668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57150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 Prom, 1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6019560" y="24382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0102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s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6:03:15Z</dcterms:created>
  <dc:creator>Kristi Reyes</dc:creator>
  <dc:description/>
  <dc:language>en-US</dc:language>
  <cp:lastModifiedBy>Owner</cp:lastModifiedBy>
  <dcterms:modified xsi:type="dcterms:W3CDTF">2009-09-17T21:14:30Z</dcterms:modified>
  <cp:revision>12</cp:revision>
  <dc:subject/>
  <dc:title>Slide 1</dc:title>
</cp:coreProperties>
</file>